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7DF2-A4C6-4185-B2E2-C210011D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114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879-099C-4E55-AF6B-7715608E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944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114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89440" y="3114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3ECE-1461-454A-833D-E34A73C1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73440" y="243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37760" y="243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114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73440" y="3114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37760" y="3114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904-3F95-4CB7-835E-E972A27B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54C5-402C-4CD6-8710-8C3CFA8F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64008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9D5B-A090-494D-A6F8-5974B92F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9E94-04DD-4A56-9C81-90ECF5F0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89440" y="24379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D066-8A2D-4C42-8900-0C2906DF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B3D8-AA26-465B-ADF5-E73FB5A8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6933960" cy="529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BDC8-6B55-4732-B2B2-E2E610BF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89440" y="24379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114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D55B-DACC-4690-BCA0-8B1931E5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64008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06E-A0A3-4361-9B41-4C225927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8944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89440" y="3114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9964-42B5-4C0D-92A9-CA975CC1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8944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114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E2AA-0106-4F48-829C-86B19951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114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0D82-C107-4403-AB65-998545FB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8944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114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89440" y="3114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BFA9-7E3F-4F43-B437-31E16A84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3440" y="243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37760" y="243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114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3440" y="3114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937760" y="3114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1F25-A6D3-429E-A7E6-AB930C55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F1FF-5370-445E-95DD-E2F3B983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89440" y="24379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1B4C-3913-4224-B8B9-B316CE05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472-A7EB-43D9-AEE7-EF570689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6933960" cy="529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9D6-FECE-4974-B107-412328DA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89440" y="24379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114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492-4A10-4805-B2A2-95594CF2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8944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89440" y="3114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F5D-46C5-4612-AF0E-958530CF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8944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114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709-80C1-43A9-A701-03D0083F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42A1-5E71-4274-AE64-DA1DEAD7D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2DC7-4665-45D7-BAB9-474503B18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57800" y="2286000"/>
            <a:ext cx="4240080" cy="4746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64008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03:14:09Z</dcterms:created>
  <dc:creator>Bonnie Ritchey</dc:creator>
  <dc:description/>
  <dc:language>en-US</dc:language>
  <cp:lastModifiedBy>Bonnie Ritchey</cp:lastModifiedBy>
  <dcterms:modified xsi:type="dcterms:W3CDTF">2004-05-21T03:14:33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21033</vt:lpwstr>
  </property>
</Properties>
</file>